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gif" ContentType="image/gif"/>
  <Override PartName="/ppt/media/image31.jpeg" ContentType="image/jpeg"/>
  <Override PartName="/ppt/media/image1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39.png" ContentType="image/png"/>
  <Override PartName="/ppt/media/image41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0.jpeg" ContentType="image/jpeg"/>
  <Override PartName="/ppt/media/image4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431-7973-445E-A00A-073D91CE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405-F15E-4502-B679-A3A1A39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7D3-0E82-4AD9-8C0F-1FA78C5F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1DC-23CB-471B-9BA1-96F39A18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3991-6E4A-497A-AFA5-9F68F08A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36C-73F0-4993-A612-A0D02EB7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7092-C243-4D08-AF8B-2279F8D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ECCD-59D5-4620-B275-3783E967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D14-E118-41F5-9CE1-0EB125B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8A4-5DB2-4A2C-B4C3-EF2A6C2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8988-B481-4BB2-8DCD-1447A9DB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919-0832-43F5-BB9D-0E76CDFC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CA02-6005-4BFE-8E68-ACBDD44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E71-90C4-4ECE-A107-7581E68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AD8-4CF1-4361-9627-EFC10CE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DF46-E228-4262-8EDC-D4EA645C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0AB9-0237-472D-86E1-E1A87A14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9545-0F03-4B43-AB65-7A4DF37E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9C9E-94A6-4BD3-B550-CED0A1B1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B407-416F-473C-B96E-C2DA93DA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2A5B-DB2A-4571-A12D-B83332A6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345CD-D01F-4906-95E5-44BE680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D3F-4785-472C-8A34-A417086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C0A6-01EB-49EC-87E2-D562855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A69F-288D-4CCE-9BDA-E53C0D0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BD50-8F17-4E02-9551-00398EA6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FA55-8407-499D-89BB-98482CBE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9C1E-3551-4B52-9896-A58A1C8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858F-9BF1-4CA5-A50E-12AF871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B7BB-C54C-4B98-B93F-5AB99662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1C4-ED94-4F9F-B72A-FFD1AA7E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BF7-243B-4CB8-B972-E1F20CCA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7C5-FDEB-415A-B5CE-DC57D82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E96-F2EB-46F6-9891-A8FFEBF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8CA-FA8B-4431-9705-2F32440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97E-275D-4B99-803C-3F63A72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1EC-39C1-4E7D-A7D3-67AFAD04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0CE4-F25E-4C09-9EB5-FB35057B00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815-6CA6-43B5-938F-1F4BCB1FAD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7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1234561036_shutterstock_222106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71800" y="3049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8"/>
          <p:cNvSpPr txBox="1"/>
          <p:nvPr/>
        </p:nvSpPr>
        <p:spPr>
          <a:xfrm>
            <a:off x="5867280" y="476280"/>
            <a:ext cx="30258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АЛБАЕВ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ЙНУР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ЙТБАЙҚЫЗ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7"/>
          <p:cNvSpPr txBox="1"/>
          <p:nvPr/>
        </p:nvSpPr>
        <p:spPr>
          <a:xfrm rot="21196200">
            <a:off x="5468400" y="1981080"/>
            <a:ext cx="3672000" cy="22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стауыш сынып </a:t>
            </a:r>
            <a:endParaRPr b="1" i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ұғалімі</a:t>
            </a:r>
            <a:endParaRPr b="1" i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Picture 10" descr="butterfly2-4"/>
          <p:cNvPicPr/>
          <p:nvPr/>
        </p:nvPicPr>
        <p:blipFill>
          <a:blip r:embed="rId3"/>
          <a:stretch/>
        </p:blipFill>
        <p:spPr>
          <a:xfrm>
            <a:off x="2438280" y="-228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butterfly2-4"/>
          <p:cNvPicPr/>
          <p:nvPr/>
        </p:nvPicPr>
        <p:blipFill>
          <a:blip r:embed="rId4"/>
          <a:stretch/>
        </p:blipFill>
        <p:spPr>
          <a:xfrm>
            <a:off x="4419720" y="20574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3" descr=""/>
          <p:cNvPicPr/>
          <p:nvPr/>
        </p:nvPicPr>
        <p:blipFill>
          <a:blip r:embed="rId1"/>
          <a:stretch/>
        </p:blipFill>
        <p:spPr>
          <a:xfrm>
            <a:off x="0" y="3322800"/>
            <a:ext cx="4419720" cy="3535200"/>
          </a:xfrm>
          <a:prstGeom prst="rect">
            <a:avLst/>
          </a:prstGeom>
          <a:ln w="0">
            <a:noFill/>
          </a:ln>
        </p:spPr>
      </p:pic>
      <p:pic>
        <p:nvPicPr>
          <p:cNvPr id="226" name="3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 rot="21123000">
            <a:off x="837720" y="121932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ынау қандай дәстүр?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371600" y="2146320"/>
            <a:ext cx="64771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Тұсау к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ынау қандай дәстү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tangle 3" descr=""/>
          <p:cNvPicPr/>
          <p:nvPr/>
        </p:nvPicPr>
        <p:blipFill>
          <a:blip r:embed="rId1"/>
          <a:stretch/>
        </p:blipFill>
        <p:spPr>
          <a:xfrm>
            <a:off x="1168560" y="1600200"/>
            <a:ext cx="680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3880" y="2514600"/>
            <a:ext cx="579132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Үйлену той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00"/>
            </a:gs>
            <a:gs pos="100000">
              <a:srgbClr val="cc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5"/>
          <p:cNvSpPr txBox="1"/>
          <p:nvPr/>
        </p:nvSpPr>
        <p:spPr>
          <a:xfrm>
            <a:off x="3124080" y="160020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Сабақтың мақсаты:</a:t>
            </a:r>
            <a:endParaRPr b="0" i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828800" y="2133720"/>
            <a:ext cx="655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ұрыс тамақтану туралы білімдерін жүйелеу, кеңейту. Тазалық гигиенасы туралы ережелерді қайтал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2. Дүниетанымын, ой-өрісін пәнге деген қызығушылығын артты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3. Дұрыс тамақта білуге  тәрбиеле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сканирование0092"/>
          <p:cNvPicPr/>
          <p:nvPr/>
        </p:nvPicPr>
        <p:blipFill>
          <a:blip r:embed="rId1"/>
          <a:stretch/>
        </p:blipFill>
        <p:spPr>
          <a:xfrm rot="19092000">
            <a:off x="457200" y="533520"/>
            <a:ext cx="1447920" cy="1438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minipeiz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7"/>
          <p:cNvSpPr txBox="1"/>
          <p:nvPr/>
        </p:nvSpPr>
        <p:spPr>
          <a:xfrm>
            <a:off x="1523880" y="53352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ынау не?" дидактикалық ойын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905120" y="3429000"/>
            <a:ext cx="1752480" cy="19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3810240" cy="1644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819840" y="3657600"/>
            <a:ext cx="2324160" cy="238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886200" y="4343400"/>
            <a:ext cx="2514600" cy="1380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16"/>
          <p:cNvPicPr/>
          <p:nvPr/>
        </p:nvPicPr>
        <p:blipFill>
          <a:blip r:embed="rId7"/>
          <a:stretch/>
        </p:blipFill>
        <p:spPr>
          <a:xfrm rot="891000">
            <a:off x="304560" y="4572000"/>
            <a:ext cx="1274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6"/>
          <p:cNvSpPr txBox="1"/>
          <p:nvPr/>
        </p:nvSpPr>
        <p:spPr>
          <a:xfrm>
            <a:off x="684360" y="189000"/>
            <a:ext cx="79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ІІ. "Мағынаны тану" кезеңі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жаңа сабақты электрондық оқулықпен түсіндіру)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258920" y="15573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2438280"/>
            <a:ext cx="750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ұрыс тамақтану адам өмірін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қалай қажет екендігін көрсет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83360" y="4794120"/>
            <a:ext cx="2960640" cy="2063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Денсаулықтың негізі- дұрыс тамақтан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1.Қолыңды сабындап ж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2.Қисаймай, түзу оты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3.Қасықты оң қолыңмен ұ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4.Тамақ ішіп отырып сөйлеме, күлме, кітап,газет оқы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5.Шамадан тыс тойып іш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6.Нанды үзіп ж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7.Тамақтан соң аузыңды шай, қолыңды ж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27432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Мұғалімнің аты-жөн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Оралбаева Айнур Айтбайқы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Туған жылы, айы, күн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16 мамыр 1982ж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Қызмет орны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Баянауыл ауданы, Ш.Айманов атындағы жалпы орта білім беретін гимназия мектеб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Қызмет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Мұғал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ілім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Арнаулы 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ітірген оқу орны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Павлодар Гуманитарлық-Педагогикалық колледж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Мамандығы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Бастауыш сынып мұғалім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Жалпы педагогикалық еңбек өтіл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7 ж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ауазымы бойынша еңбек өтілі: 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1 ж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абақ беретін пәні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Бастауыш сыны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анаты: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жо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Жанұя жағдайы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   Отбасылы, 1 қыз тәрбиелеп оты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kk-KZ" sz="2000" spc="-1" strike="noStrike">
                <a:solidFill>
                  <a:srgbClr val="000000"/>
                </a:solidFill>
                <a:latin typeface="Arial"/>
              </a:rPr>
              <a:t>Түсіну, меңгеру, үйрету!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kk-KZ" sz="3600" spc="-1" strike="noStrike">
                <a:solidFill>
                  <a:srgbClr val="000000"/>
                </a:solidFill>
                <a:latin typeface="Arial"/>
              </a:rPr>
              <a:t>Азық-түліктің қандай түрлері бола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5678640"/>
            <a:ext cx="1293840" cy="117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611360" cy="175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163000" y="0"/>
            <a:ext cx="981000" cy="22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248520" y="4038480"/>
            <a:ext cx="289548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38070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Азық -түлікті жина” ойы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ctangl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1494000" cy="1676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600200" y="1295280"/>
            <a:ext cx="1305000" cy="1247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4114800" y="1371600"/>
            <a:ext cx="981000" cy="22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5257800" y="1371600"/>
            <a:ext cx="2019240" cy="1133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7391520" y="1676520"/>
            <a:ext cx="1371600" cy="1087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380880" y="3200400"/>
            <a:ext cx="1123920" cy="81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5486400" y="3807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3276720" y="1905120"/>
            <a:ext cx="885600" cy="26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2971800" y="1143000"/>
            <a:ext cx="1057320" cy="876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kk-KZ" sz="4800" spc="-1" strike="noStrike">
                <a:solidFill>
                  <a:srgbClr val="000000"/>
                </a:solidFill>
                <a:latin typeface="Arial"/>
              </a:rPr>
              <a:t>Тамақ алдымызға қалай келеді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16"/>
          <p:cNvPicPr/>
          <p:nvPr/>
        </p:nvPicPr>
        <p:blipFill>
          <a:blip r:embed="rId2"/>
          <a:stretch/>
        </p:blipFill>
        <p:spPr>
          <a:xfrm rot="1530000">
            <a:off x="7238880" y="4648320"/>
            <a:ext cx="1274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kk-KZ" sz="4800" spc="-1" strike="noStrike">
                <a:solidFill>
                  <a:srgbClr val="000000"/>
                </a:solidFill>
                <a:latin typeface="Arial"/>
              </a:rPr>
              <a:t>Сендер неше мезгіл тамақ ішесіңд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019920" y="4038480"/>
            <a:ext cx="28954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kk-KZ" sz="4800" spc="-1" strike="noStrike">
                <a:solidFill>
                  <a:srgbClr val="000000"/>
                </a:solidFill>
                <a:latin typeface="Arial"/>
              </a:rPr>
              <a:t>Сабақтан кейін бірден тамақ ішуге отырасыңдар м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369200" y="4724280"/>
            <a:ext cx="1774800" cy="2133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52520" cy="1198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457200" y="1752480"/>
          <a:ext cx="8229600" cy="1035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ұрыс тамақта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ұрыс тамақтанба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Дәптер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rot="990000">
            <a:off x="7116480" y="4876920"/>
            <a:ext cx="2027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ергіту сә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3" descr=""/>
          <p:cNvPicPr/>
          <p:nvPr/>
        </p:nvPicPr>
        <p:blipFill>
          <a:blip r:embed="rId2"/>
          <a:stretch/>
        </p:blipFill>
        <p:spPr>
          <a:xfrm rot="1272600">
            <a:off x="7405560" y="4883040"/>
            <a:ext cx="1498680" cy="1665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 rot="21212400">
            <a:off x="533160" y="4800240"/>
            <a:ext cx="1600200" cy="1380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3" name=""/>
          <p:cNvSpPr txBox="1"/>
          <p:nvPr/>
        </p:nvSpPr>
        <p:spPr>
          <a:xfrm>
            <a:off x="2338560" y="2384280"/>
            <a:ext cx="44668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нымыздан тұрайық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ақанды ұрайық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р отырып, бір тұрып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з демалып алайық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уална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Нансыз тамақ ішесің 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Қандай көкөністерді күнделікті жейсі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Қандай жемістің шырынын ішесі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Күніне неше рет сүт ішесі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5.Сен балықты жақсы көресің 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6.Шайға қантты көп саласың 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16"/>
          <p:cNvPicPr/>
          <p:nvPr/>
        </p:nvPicPr>
        <p:blipFill>
          <a:blip r:embed="rId1"/>
          <a:stretch/>
        </p:blipFill>
        <p:spPr>
          <a:xfrm rot="891000">
            <a:off x="7314840" y="4648320"/>
            <a:ext cx="1274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750680" y="1011600"/>
            <a:ext cx="5640840" cy="5324760"/>
            <a:chOff x="1750680" y="1011600"/>
            <a:chExt cx="5640840" cy="5324760"/>
          </a:xfrm>
        </p:grpSpPr>
        <p:sp>
          <p:nvSpPr>
            <p:cNvPr id="289" name="_s38916"/>
            <p:cNvSpPr/>
            <p:nvPr/>
          </p:nvSpPr>
          <p:spPr>
            <a:xfrm>
              <a:off x="3576960" y="1068480"/>
              <a:ext cx="1989000" cy="187740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877400"/>
                <a:gd name="textAreaBottom" fmla="*/ 1877760 h 18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38917"/>
            <p:cNvSpPr/>
            <p:nvPr/>
          </p:nvSpPr>
          <p:spPr>
            <a:xfrm rot="2700000">
              <a:off x="4882680" y="1501920"/>
              <a:ext cx="1877760" cy="1989000"/>
            </a:xfrm>
            <a:custGeom>
              <a:avLst/>
              <a:gdLst>
                <a:gd name="textAreaLeft" fmla="*/ 0 w 1877760"/>
                <a:gd name="textAreaRight" fmla="*/ 1878120 w 187776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38918"/>
            <p:cNvSpPr/>
            <p:nvPr/>
          </p:nvSpPr>
          <p:spPr>
            <a:xfrm rot="5400000">
              <a:off x="5398920" y="2681640"/>
              <a:ext cx="1877760" cy="1989000"/>
            </a:xfrm>
            <a:custGeom>
              <a:avLst/>
              <a:gdLst>
                <a:gd name="textAreaLeft" fmla="*/ 0 w 1877760"/>
                <a:gd name="textAreaRight" fmla="*/ 1878120 w 187776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38919"/>
            <p:cNvSpPr/>
            <p:nvPr/>
          </p:nvSpPr>
          <p:spPr>
            <a:xfrm rot="8100000">
              <a:off x="4825080" y="3917520"/>
              <a:ext cx="1989000" cy="18777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877760"/>
                <a:gd name="textAreaBottom" fmla="*/ 1878120 h 18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38920"/>
            <p:cNvSpPr/>
            <p:nvPr/>
          </p:nvSpPr>
          <p:spPr>
            <a:xfrm rot="10800000">
              <a:off x="3575160" y="4405320"/>
              <a:ext cx="1989000" cy="18777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877760"/>
                <a:gd name="textAreaBottom" fmla="*/ 1878120 h 18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38921"/>
            <p:cNvSpPr/>
            <p:nvPr/>
          </p:nvSpPr>
          <p:spPr>
            <a:xfrm rot="13500000">
              <a:off x="2380680" y="3859560"/>
              <a:ext cx="1877400" cy="1989000"/>
            </a:xfrm>
            <a:custGeom>
              <a:avLst/>
              <a:gdLst>
                <a:gd name="textAreaLeft" fmla="*/ 0 w 1877400"/>
                <a:gd name="textAreaRight" fmla="*/ 1877760 w 187740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38922"/>
            <p:cNvSpPr/>
            <p:nvPr/>
          </p:nvSpPr>
          <p:spPr>
            <a:xfrm rot="16200000">
              <a:off x="1864440" y="2680200"/>
              <a:ext cx="1877760" cy="1989000"/>
            </a:xfrm>
            <a:custGeom>
              <a:avLst/>
              <a:gdLst>
                <a:gd name="textAreaLeft" fmla="*/ 0 w 1877760"/>
                <a:gd name="textAreaRight" fmla="*/ 1878120 w 187776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38923"/>
            <p:cNvSpPr/>
            <p:nvPr/>
          </p:nvSpPr>
          <p:spPr>
            <a:xfrm rot="18900000">
              <a:off x="2327040" y="1555200"/>
              <a:ext cx="1989000" cy="18777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877760"/>
                <a:gd name="textAreaBottom" fmla="*/ 1878120 h 18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38924"/>
            <p:cNvSpPr/>
            <p:nvPr/>
          </p:nvSpPr>
          <p:spPr>
            <a:xfrm>
              <a:off x="5131440" y="1011600"/>
              <a:ext cx="8596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Дұры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тамақтану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38925"/>
            <p:cNvSpPr/>
            <p:nvPr/>
          </p:nvSpPr>
          <p:spPr>
            <a:xfrm>
              <a:off x="1750680" y="233352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Темекі,арақ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нашақорлықтан аулақ болу.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_s38926"/>
            <p:cNvSpPr/>
            <p:nvPr/>
          </p:nvSpPr>
          <p:spPr>
            <a:xfrm>
              <a:off x="3151440" y="101160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Спортпен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айналысу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38927"/>
            <p:cNvSpPr/>
            <p:nvPr/>
          </p:nvSpPr>
          <p:spPr>
            <a:xfrm>
              <a:off x="6532200" y="233352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Times New Roman"/>
                </a:rPr>
                <a:t>Жеке бас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Times New Roman"/>
                </a:rPr>
                <a:t>тазалығын сақта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38928"/>
            <p:cNvSpPr/>
            <p:nvPr/>
          </p:nvSpPr>
          <p:spPr>
            <a:xfrm>
              <a:off x="6532200" y="420300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00"/>
                  </a:solidFill>
                  <a:latin typeface="Arial"/>
                </a:rPr>
                <a:t>Күн тәртібін дұрыс сақтау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_s38929"/>
            <p:cNvSpPr/>
            <p:nvPr/>
          </p:nvSpPr>
          <p:spPr>
            <a:xfrm>
              <a:off x="5131440" y="5525280"/>
              <a:ext cx="8596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Табиғи шынығу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38930"/>
            <p:cNvSpPr/>
            <p:nvPr/>
          </p:nvSpPr>
          <p:spPr>
            <a:xfrm>
              <a:off x="3151440" y="552528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Жұқпалы аурудан                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сақтана білу                     .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_s38931"/>
            <p:cNvSpPr/>
            <p:nvPr/>
          </p:nvSpPr>
          <p:spPr>
            <a:xfrm>
              <a:off x="1750680" y="4203000"/>
              <a:ext cx="8593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900" spc="-1" strike="noStrike">
                  <a:solidFill>
                    <a:srgbClr val="000000"/>
                  </a:solidFill>
                  <a:latin typeface="Arial"/>
                </a:rPr>
                <a:t>Қайрымды болу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2895480" y="3124080"/>
            <a:ext cx="34149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уырып ем іздегенше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уырмайтын жол ізд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Үйге тапсырма: Мәтінді оқу, кестені толты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85800" y="1828800"/>
            <a:ext cx="8228520" cy="3276000"/>
            <a:chOff x="685800" y="1828800"/>
            <a:chExt cx="8228520" cy="3276000"/>
          </a:xfrm>
        </p:grpSpPr>
        <p:cxnSp>
          <p:nvCxnSpPr>
            <p:cNvPr id="308" name="_s4199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5580000" y="2359080"/>
              <a:ext cx="655560" cy="2215440"/>
            </a:xfrm>
            <a:prstGeom prst="bentConnector3">
              <a:avLst>
                <a:gd name="adj1" fmla="val 11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1" name="_s41997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3364200" y="2359080"/>
              <a:ext cx="655560" cy="2216160"/>
            </a:xfrm>
            <a:prstGeom prst="bentConnector3">
              <a:avLst>
                <a:gd name="adj1" fmla="val 11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0" name="_s41993"/>
            <p:cNvSpPr/>
            <p:nvPr/>
          </p:nvSpPr>
          <p:spPr>
            <a:xfrm>
              <a:off x="2901600" y="1828800"/>
              <a:ext cx="379764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300" spc="-1" strike="noStrike">
                  <a:solidFill>
                    <a:srgbClr val="000000"/>
                  </a:solidFill>
                  <a:latin typeface="Arial"/>
                </a:rPr>
                <a:t>Тамақ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_s41994"/>
            <p:cNvSpPr/>
            <p:nvPr/>
          </p:nvSpPr>
          <p:spPr>
            <a:xfrm>
              <a:off x="685800" y="3794400"/>
              <a:ext cx="379764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300" spc="-1" strike="noStrike">
                  <a:solidFill>
                    <a:srgbClr val="000000"/>
                  </a:solidFill>
                  <a:latin typeface="Arial"/>
                </a:rPr>
                <a:t>Пайдал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41996"/>
            <p:cNvSpPr/>
            <p:nvPr/>
          </p:nvSpPr>
          <p:spPr>
            <a:xfrm>
              <a:off x="5116680" y="3794400"/>
              <a:ext cx="3797640" cy="131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300" spc="-1" strike="noStrike">
                  <a:solidFill>
                    <a:srgbClr val="000000"/>
                  </a:solidFill>
                  <a:latin typeface="Arial"/>
                </a:rPr>
                <a:t>Зиянд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900000" y="2060640"/>
            <a:ext cx="78487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611280" y="404640"/>
            <a:ext cx="7705800" cy="540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2362320" y="1676520"/>
            <a:ext cx="54100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із бүкіл еліміз бойынш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әлемдік стандарттар деңгейінд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палы білім беру қызметі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өрсетуге қол жеткізуіміз керек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231520" y="5805360"/>
            <a:ext cx="33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Book Antiqua"/>
              </a:rPr>
              <a:t>Н.Ә.Назарба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Comic Sans MS"/>
              </a:rPr>
              <a:t>Ас-адамның арқау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Comic Sans MS"/>
              </a:rPr>
              <a:t>Аспен күш артад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Comic Sans MS"/>
              </a:rPr>
              <a:t>Тағам іш жағымд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000000"/>
                </a:solidFill>
                <a:latin typeface="Comic Sans MS"/>
              </a:rPr>
              <a:t>Тазартар жаңынд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00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P:\для записи class3\презентация\bal5.gif"/>
          <p:cNvPicPr/>
          <p:nvPr/>
        </p:nvPicPr>
        <p:blipFill>
          <a:blip r:embed="rId1"/>
          <a:stretch/>
        </p:blipFill>
        <p:spPr>
          <a:xfrm rot="20400600">
            <a:off x="7486200" y="0"/>
            <a:ext cx="1657440" cy="2600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066680" y="1039320"/>
            <a:ext cx="7239240" cy="3934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Өзіңді,тамағыңды таза ұста,ішкен-жеген сайын және де ертеңгі – кеш ауызыңды тазалап шайқа. Таза ауада көбірек жүр, қимылда-деген тілекпе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енинг: Мен саған ... тілеймін. «Жүректен – жүрекке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P:\для записи class3\презентация\sun.gif"/>
          <p:cNvPicPr/>
          <p:nvPr/>
        </p:nvPicPr>
        <p:blipFill>
          <a:blip r:embed="rId2"/>
          <a:stretch/>
        </p:blipFill>
        <p:spPr>
          <a:xfrm>
            <a:off x="0" y="4573440"/>
            <a:ext cx="28195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Интербелсенді тақтаме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2а сыныбында өткізілген дүниетану пәніне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ашық саба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Тақырыбы: “Дұрыс тамақтану -     денсаулық кепіл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Oval 7"/>
          <p:cNvSpPr/>
          <p:nvPr/>
        </p:nvSpPr>
        <p:spPr>
          <a:xfrm>
            <a:off x="3124080" y="2971800"/>
            <a:ext cx="2362320" cy="15955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</a:rPr>
              <a:t>Отб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>
            <a:off x="2057400" y="373392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H="1" flipV="1">
            <a:off x="2819520" y="2362320"/>
            <a:ext cx="57600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5105520" y="2209680"/>
            <a:ext cx="43164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867280" y="365760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5334120" y="457200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2819160" y="4419720"/>
            <a:ext cx="5331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4309920" y="1981080"/>
            <a:ext cx="33480" cy="8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4267080" y="4724280"/>
            <a:ext cx="763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057400" y="380880"/>
            <a:ext cx="53910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й тапсырмасын тексер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ынау қандай дәстү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680" y="2819520"/>
            <a:ext cx="62485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Балаға ат қо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ынау қандай дәстү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5049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981080" y="1905120"/>
            <a:ext cx="5486400" cy="21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Бесікке бөле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eS</cp:lastModifiedBy>
  <dcterms:modified xsi:type="dcterms:W3CDTF">2011-09-22T08:06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08000000000001024110</vt:lpwstr>
  </property>
  <property fmtid="{D5CDD505-2E9C-101B-9397-08002B2CF9AE}" pid="3" name="Version">
    <vt:r8>1</vt:r8>
  </property>
</Properties>
</file>